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860-12A6-46D3-8D51-2387C94E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4A4-AE26-4943-B940-854DA676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D62-262D-48C1-ADE5-245D1B2A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27B-73FA-4754-9481-354A6F42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FD5-3126-41EA-B1F3-AB9DADE2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A1E-61C5-4A76-A866-9F28B4B6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1DF-7BEA-4153-813F-9C125FAB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B70-5FFB-4E9B-85EE-F6468D06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073-09B7-41E8-9B62-6CFC76F6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134-4C8C-4A29-B13F-A37A4FAB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DA1C-7DA0-47FC-800F-8963E65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5F2-061E-4E85-B338-76894002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CB10D-36B5-4D73-BEA5-E56D77540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28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16000" y="1185840"/>
            <a:ext cx="594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708bab"/>
                </a:solidFill>
                <a:latin typeface="AusPROBE"/>
              </a:rPr>
              <a:t>Input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48000" y="298764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OIS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96000" y="3419640"/>
            <a:ext cx="0" cy="50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76720" y="4068720"/>
            <a:ext cx="1655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put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6360" y="4500720"/>
            <a:ext cx="86328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36360" y="4500720"/>
            <a:ext cx="1366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00360" y="5292720"/>
            <a:ext cx="143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KeyB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529272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nput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72000" y="5292720"/>
            <a:ext cx="201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UIInput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247640" y="4500720"/>
            <a:ext cx="50508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61080" y="4429080"/>
            <a:ext cx="2232000" cy="7905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5280" y="565164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6360" y="6443640"/>
            <a:ext cx="79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7280" y="5651640"/>
            <a:ext cx="14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8360" y="6443640"/>
            <a:ext cx="79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76360" y="5651640"/>
            <a:ext cx="18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24000" y="6443640"/>
            <a:ext cx="22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mmandExec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21080" y="2195640"/>
            <a:ext cx="143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195640"/>
            <a:ext cx="1440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45080" y="2195640"/>
            <a:ext cx="2520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Joysticks/Gamep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11640" y="2556000"/>
            <a:ext cx="1008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96000" y="2556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544720" y="2556000"/>
            <a:ext cx="1079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enjamin Knecht</dc:creator>
  <dc:description/>
  <dc:language>en-US</dc:language>
  <cp:lastModifiedBy>Grieder</cp:lastModifiedBy>
  <dcterms:modified xsi:type="dcterms:W3CDTF">2008-05-28T21:53:36Z</dcterms:modified>
  <cp:revision>2</cp:revision>
  <dc:subject/>
  <dc:title>pps07_template</dc:title>
</cp:coreProperties>
</file>