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2BF-4128-4C5F-883B-41032B7A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306-0DE7-4CAF-B22B-2613983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508-8211-420B-91FE-8F011143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F1B-261F-4D1A-806B-8A417D20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B96-7071-495C-BC4F-F45CAA70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B04-3E3F-4AB0-847C-320F7B70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1F9-5BF6-4010-A0C8-11C01340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70C-2B1A-401B-B8DC-2625DFF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118-9CAF-4AC4-8979-1B8F01D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A0B-A306-4D38-9B10-58EBE5A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53D-C701-49E9-B650-E205210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896-C286-4FD6-AA18-786DB85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6B410-E00D-4413-8807-A18A41CAF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28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6000" y="1185840"/>
            <a:ext cx="594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8bab"/>
                </a:solidFill>
                <a:latin typeface="AusPROBE"/>
              </a:rPr>
              <a:t>Inpu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2987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I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3419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6720" y="4068720"/>
            <a:ext cx="165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6360" y="4500720"/>
            <a:ext cx="8632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360" y="4500720"/>
            <a:ext cx="1366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529272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29272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2000" y="529272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Inpu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247640" y="4500720"/>
            <a:ext cx="505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1080" y="4429080"/>
            <a:ext cx="2232000" cy="790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5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7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5651640"/>
            <a:ext cx="18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4000" y="6443640"/>
            <a:ext cx="22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mmand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19564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195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080" y="2195640"/>
            <a:ext cx="252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Joysticks/Game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1640" y="2556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2556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44720" y="2556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 Knecht</dc:creator>
  <dc:description/>
  <dc:language>en-US</dc:language>
  <cp:lastModifiedBy>Grieder</cp:lastModifiedBy>
  <dcterms:modified xsi:type="dcterms:W3CDTF">2008-05-28T21:53:36Z</dcterms:modified>
  <cp:revision>2</cp:revision>
  <dc:subject/>
  <dc:title>pps07_template</dc:title>
</cp:coreProperties>
</file>