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E33F-B1D2-4095-8A55-DF74EA1E0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2798-BA0D-4096-8E4A-D4CC73CA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A5DF-BCDF-4480-B665-75B959BCF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FBBB-ADF5-472B-9960-741F63C03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561C-D373-467C-8292-A0FCA294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E3B2-9518-4BF4-BD1A-B215648A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71C2-C193-4AC5-A904-401850DF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652A-81D8-4418-A39C-27294FF6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2946-74C6-4237-8A9F-E3A6C5CA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05D6-C358-4EB7-A7D2-884C7250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CA17-6AB3-4AC9-AA96-95DCB146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CCDC-319B-48DE-B35A-FC0C89DC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7DEE3D-1B53-4868-83B9-311189992B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28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16000" y="1185840"/>
            <a:ext cx="5940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708bab"/>
                </a:solidFill>
                <a:latin typeface="AusPROBE"/>
              </a:rPr>
              <a:t>Input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48000" y="2987640"/>
            <a:ext cx="1440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OIS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96000" y="3419640"/>
            <a:ext cx="0" cy="50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76720" y="4068720"/>
            <a:ext cx="1655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Input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256360" y="4500720"/>
            <a:ext cx="86328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736360" y="4500720"/>
            <a:ext cx="1366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00360" y="5292720"/>
            <a:ext cx="1439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KeyBi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00360" y="5292720"/>
            <a:ext cx="1440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Input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72000" y="5292720"/>
            <a:ext cx="2016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GUIInput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4247640" y="4500720"/>
            <a:ext cx="50508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61080" y="4429080"/>
            <a:ext cx="2232000" cy="79056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75280" y="5651640"/>
            <a:ext cx="144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16360" y="6443640"/>
            <a:ext cx="792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Sh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07280" y="5651640"/>
            <a:ext cx="144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8360" y="6443640"/>
            <a:ext cx="792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76360" y="5651640"/>
            <a:ext cx="18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24000" y="6443640"/>
            <a:ext cx="2232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CommandExecu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21080" y="2195640"/>
            <a:ext cx="1439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80000" y="2195640"/>
            <a:ext cx="1440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Key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45080" y="2195640"/>
            <a:ext cx="2520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Joysticks/Gamep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11640" y="2556000"/>
            <a:ext cx="100800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96000" y="2556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544720" y="2556000"/>
            <a:ext cx="107964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enjamin Knecht</dc:creator>
  <dc:description/>
  <dc:language>en-US</dc:language>
  <cp:lastModifiedBy>Grieder</cp:lastModifiedBy>
  <dcterms:modified xsi:type="dcterms:W3CDTF">2008-05-28T21:53:36Z</dcterms:modified>
  <cp:revision>2</cp:revision>
  <dc:subject/>
  <dc:title>pps07_template</dc:title>
</cp:coreProperties>
</file>